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2452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2452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0CDBB76-F55F-4756-AC08-70D5E24EDDC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488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242A8E0-8D2E-442F-A6B4-6CC47FA2485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488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349DA6B-3493-4290-8263-57CF8F3E957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488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613199B-5D0E-4B11-BF05-12A530FA7F8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488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2352D09-D9ED-4D13-8DFC-1CD4EAB0E88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F1C-F5D6-47D0-8BFE-1D5FF614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688-236D-442B-BF1D-81049C86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EAE-F3D1-4F07-B840-BD51CEE6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E7E-568B-404F-85A9-E334A01B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B1DE-5F8E-4082-9D83-FE09FEE1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E62A-7067-4842-826F-88BC678D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DADB-E4A8-41A4-882F-57F26146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B4D6-AE32-4383-8175-4BB95293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7F08-6D48-4C81-B94C-7CEFE753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BE0E-037D-4FE5-8C5D-7741DB58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1368-0FD9-4AEF-9EDF-6909177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144-1189-499C-A79D-79D0FBCA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8423-0279-4C21-871A-97386F29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CEF5-EBD0-4714-88AD-5C62FE0D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7AEA-2100-48F6-A3EF-833074F5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0231-ECB8-4416-AF2F-E9C104AF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28D8-4F8A-4DED-B1A9-7C50017A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C8C1-DD2B-4882-952D-00EF01F4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6733-07D4-4CED-9D6D-76FE6BBE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48C9-C10A-47CD-B776-6002AA21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B16C-3049-4C58-8B1E-B15659C6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750D-C2FA-448C-B4B6-3446A33E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FA3-F0F0-4CD4-AA82-039C1616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7C61-ABD1-45EA-A3DF-3EE8107E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4BE8-1B9D-4C8A-9443-FBCA9F56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6D75-B501-4165-85C7-D0C1867B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CFD79-15A7-46C0-AF1E-8439528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D93C-3DD1-46AF-A9B4-B8C1501C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BB11-0A4C-4079-A7BD-DDA2CF0D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EDBA-CA8C-4B86-8F15-C1CE17F1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0F747-C5DE-4418-B79F-6597CEBE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EADFF-A83A-4FED-87FA-1B0C0B20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98574-9DBF-446B-94A6-D1449E2D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7BC-F50A-449D-874C-6E30B379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DA85-BEF8-49A2-8ABB-AA63F724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0E773-CF46-4904-8FC6-1A91EC8B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A91A-5EC1-4332-9BC6-9414D949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E9AE-4691-476E-95A4-90DFFC10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06A78-F8FC-4502-84DF-05AE1572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E28A-3A28-4C3A-8BFA-DA04D2FE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1384B-6A1A-4E8E-A75E-21AAD6F4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FC49A-8455-407F-B4F5-B6162E27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7A280-1A35-4766-B57E-7046B6D0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ABB-E759-40A8-A78F-0A6E1A75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608-7763-4505-93AB-96ED167A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AB4-58E6-476E-864C-4886DC55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C40-70AA-478F-A3E6-286A1306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73E-AF74-494D-A14E-E2F51CC4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BC5A-EC45-4C86-8F8D-01E878B72048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4658-509F-4BF5-A347-243684F33FC3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9219-06A2-4171-A227-0BE5696561A6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E043-66B5-4A85-806D-743A8CD70D5F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73080" y="2127240"/>
            <a:ext cx="8620200" cy="1109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219320" y="3212640"/>
            <a:ext cx="6400800" cy="31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324480" y="44956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14800" y="4572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7467480" y="5335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762120" y="228600"/>
            <a:ext cx="5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2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2286000" y="33829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7467480" y="28954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80880" y="45720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971800" y="58672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7543800" y="49528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638680" y="4572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2362320" y="533412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066680" y="34290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8381880" y="12952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6510240" y="33829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2133720" y="38088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1633680" y="556272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304920" y="274320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8229600" y="37339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6400800" y="53341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4572000" y="58672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533520" y="5821200"/>
            <a:ext cx="5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200" spc="-1" strike="noStrike">
                <a:solidFill>
                  <a:srgbClr val="000000"/>
                </a:solidFill>
                <a:latin typeface="Lucida Grande"/>
                <a:ea typeface="Arial"/>
              </a:rPr>
              <a:t>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5410080" y="38862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9"/>
          <p:cNvSpPr/>
          <p:nvPr/>
        </p:nvSpPr>
        <p:spPr>
          <a:xfrm>
            <a:off x="2743200" y="41148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7162920" y="388620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8186760" y="56689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457200" y="10666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3"/>
          <p:cNvSpPr/>
          <p:nvPr/>
        </p:nvSpPr>
        <p:spPr>
          <a:xfrm>
            <a:off x="3048120" y="22860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7315200" y="601992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5"/>
          <p:cNvSpPr/>
          <p:nvPr/>
        </p:nvSpPr>
        <p:spPr>
          <a:xfrm>
            <a:off x="1176480" y="4648320"/>
            <a:ext cx="57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6"/>
          <p:cNvSpPr/>
          <p:nvPr/>
        </p:nvSpPr>
        <p:spPr>
          <a:xfrm>
            <a:off x="642960" y="198108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5672160" y="597384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8"/>
          <p:cNvSpPr/>
          <p:nvPr/>
        </p:nvSpPr>
        <p:spPr>
          <a:xfrm>
            <a:off x="7696080" y="2057400"/>
            <a:ext cx="57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39"/>
          <p:cNvSpPr txBox="1"/>
          <p:nvPr/>
        </p:nvSpPr>
        <p:spPr>
          <a:xfrm>
            <a:off x="1371600" y="189000"/>
            <a:ext cx="59436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¿Adónde va la tild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37" name="Picture 36" descr="ortografia tabla1[1].jpg"/>
          <p:cNvPicPr/>
          <p:nvPr/>
        </p:nvPicPr>
        <p:blipFill>
          <a:blip r:embed="rId4"/>
          <a:stretch/>
        </p:blipFill>
        <p:spPr>
          <a:xfrm>
            <a:off x="1042920" y="3213000"/>
            <a:ext cx="6697800" cy="34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-30240" y="-115920"/>
            <a:ext cx="8850240" cy="817560"/>
          </a:xfrm>
          <a:prstGeom prst="rect">
            <a:avLst/>
          </a:prstGeom>
          <a:ln w="0">
            <a:noFill/>
          </a:ln>
        </p:spPr>
      </p:pic>
      <p:sp>
        <p:nvSpPr>
          <p:cNvPr id="329" name="Cloud"/>
          <p:cNvSpPr/>
          <p:nvPr/>
        </p:nvSpPr>
        <p:spPr>
          <a:xfrm>
            <a:off x="6019920" y="4562640"/>
            <a:ext cx="2743200" cy="183816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160"/>
              <a:gd name="textAreaBottom" fmla="*/ 1475640 h 1838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380880" y="801720"/>
            <a:ext cx="8382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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llamad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SDRÚJUL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tienen el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n la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ntepenúltima sílab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. (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s-MX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syllable from the end of the wor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914400" y="2055960"/>
            <a:ext cx="7315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médic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mé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di   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ápices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á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pi   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teléfon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te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é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fo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utomátic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au  to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má 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ti  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ájar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pá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ja   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ámpar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ám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pa    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árpados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pár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pa    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bailábamos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bai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á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ba   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brújul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brú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ju   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rápid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rá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pi   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6324480" y="50166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¡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TOD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las palabras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esdrújul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tienen un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cento escrito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8"/>
          <p:cNvSpPr/>
          <p:nvPr/>
        </p:nvSpPr>
        <p:spPr>
          <a:xfrm>
            <a:off x="1981080" y="2057400"/>
            <a:ext cx="45720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2057400" y="2514600"/>
            <a:ext cx="30492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2666880" y="2895480"/>
            <a:ext cx="381240" cy="38124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3276720" y="3276720"/>
            <a:ext cx="45720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1981080" y="3657600"/>
            <a:ext cx="381240" cy="45720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2133720" y="4114800"/>
            <a:ext cx="53316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5"/>
          <p:cNvSpPr/>
          <p:nvPr/>
        </p:nvSpPr>
        <p:spPr>
          <a:xfrm>
            <a:off x="2209680" y="4572000"/>
            <a:ext cx="53352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6"/>
          <p:cNvSpPr/>
          <p:nvPr/>
        </p:nvSpPr>
        <p:spPr>
          <a:xfrm>
            <a:off x="2895480" y="4952880"/>
            <a:ext cx="381240" cy="38124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7"/>
          <p:cNvSpPr/>
          <p:nvPr/>
        </p:nvSpPr>
        <p:spPr>
          <a:xfrm>
            <a:off x="2057400" y="5334120"/>
            <a:ext cx="60948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8"/>
          <p:cNvSpPr/>
          <p:nvPr/>
        </p:nvSpPr>
        <p:spPr>
          <a:xfrm>
            <a:off x="2057400" y="5791320"/>
            <a:ext cx="457200" cy="380880"/>
          </a:xfrm>
          <a:prstGeom prst="ellipse">
            <a:avLst/>
          </a:prstGeom>
          <a:noFill/>
          <a:ln w="1908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8832600" cy="1079640"/>
          </a:xfrm>
          <a:prstGeom prst="rect">
            <a:avLst/>
          </a:prstGeom>
          <a:ln w="0">
            <a:noFill/>
          </a:ln>
        </p:spPr>
      </p:pic>
      <p:sp>
        <p:nvSpPr>
          <p:cNvPr id="344" name="Cloud"/>
          <p:cNvSpPr/>
          <p:nvPr/>
        </p:nvSpPr>
        <p:spPr>
          <a:xfrm>
            <a:off x="6019920" y="4562640"/>
            <a:ext cx="2743200" cy="183816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160"/>
              <a:gd name="textAreaBottom" fmla="*/ 1475640 h 1838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304920" y="189000"/>
            <a:ext cx="83818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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llamad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OBREESDRÚJUL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tienen el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ntes de l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ntepenúltima sílab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. (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MX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syllable from the end of the wor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914400" y="2514600"/>
            <a:ext cx="7315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ígamel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dí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ga    me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lévasel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lé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va    se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véndenosl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én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de    nos  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ómetel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ó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me    te  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críbemel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es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rí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be    me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uéltanosl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él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ta    nos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repítamel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re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pí 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ta    me 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úmplemel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úm 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le    me   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traígamelos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traí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ga    me   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6324480" y="485784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¡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TOD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las palabras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sobreesdrújul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tienen un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cento escrito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2286000" y="2514600"/>
            <a:ext cx="457200" cy="380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2286000" y="2895480"/>
            <a:ext cx="457200" cy="3812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9"/>
          <p:cNvSpPr/>
          <p:nvPr/>
        </p:nvSpPr>
        <p:spPr>
          <a:xfrm>
            <a:off x="2438280" y="3352680"/>
            <a:ext cx="533520" cy="3812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2286000" y="3733920"/>
            <a:ext cx="457200" cy="380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1"/>
          <p:cNvSpPr/>
          <p:nvPr/>
        </p:nvSpPr>
        <p:spPr>
          <a:xfrm>
            <a:off x="3124080" y="4191120"/>
            <a:ext cx="457200" cy="380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2"/>
          <p:cNvSpPr/>
          <p:nvPr/>
        </p:nvSpPr>
        <p:spPr>
          <a:xfrm>
            <a:off x="2514600" y="4572000"/>
            <a:ext cx="609480" cy="380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3"/>
          <p:cNvSpPr/>
          <p:nvPr/>
        </p:nvSpPr>
        <p:spPr>
          <a:xfrm>
            <a:off x="2895480" y="5029200"/>
            <a:ext cx="457200" cy="38088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2590920" y="5410080"/>
            <a:ext cx="609480" cy="3812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5"/>
          <p:cNvSpPr/>
          <p:nvPr/>
        </p:nvSpPr>
        <p:spPr>
          <a:xfrm>
            <a:off x="2514600" y="5867280"/>
            <a:ext cx="689040" cy="38124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36360" y="49320"/>
            <a:ext cx="8783640" cy="1176120"/>
          </a:xfrm>
          <a:prstGeom prst="rect">
            <a:avLst/>
          </a:prstGeom>
          <a:ln w="0">
            <a:noFill/>
          </a:ln>
        </p:spPr>
      </p:pic>
      <p:sp>
        <p:nvSpPr>
          <p:cNvPr id="358" name="Cloud"/>
          <p:cNvSpPr/>
          <p:nvPr/>
        </p:nvSpPr>
        <p:spPr>
          <a:xfrm>
            <a:off x="826920" y="1413000"/>
            <a:ext cx="7239240" cy="1492200"/>
          </a:xfrm>
          <a:custGeom>
            <a:avLst/>
            <a:gdLst>
              <a:gd name="textAreaLeft" fmla="*/ 997560 w 7239240"/>
              <a:gd name="textAreaRight" fmla="*/ 5726880 w 7239240"/>
              <a:gd name="textAreaTop" fmla="*/ 225360 h 1492200"/>
              <a:gd name="textAreaBottom" fmla="*/ 1197720 h 14922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1187280" y="1628640"/>
            <a:ext cx="6553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mic Sans MS"/>
              </a:rPr>
              <a:t>Necesitan</a:t>
            </a:r>
            <a:r>
              <a:rPr b="1" lang="es-MX" sz="2300" spc="-1" strike="noStrike">
                <a:solidFill>
                  <a:srgbClr val="ffffff"/>
                </a:solidFill>
                <a:latin typeface="Comic Sans MS"/>
              </a:rPr>
              <a:t> la tilde</a:t>
            </a:r>
            <a:r>
              <a:rPr b="0" lang="es-MX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MX" sz="2300" spc="-1" strike="noStrike" u="sng">
                <a:solidFill>
                  <a:srgbClr val="ffffff"/>
                </a:solidFill>
                <a:uFillTx/>
                <a:latin typeface="Comic Sans MS"/>
              </a:rPr>
              <a:t>solamente</a:t>
            </a:r>
            <a:r>
              <a:rPr b="0" lang="es-MX" sz="2300" spc="-1" strike="noStrike">
                <a:solidFill>
                  <a:srgbClr val="ffffff"/>
                </a:solidFill>
                <a:latin typeface="Comic Sans MS"/>
              </a:rPr>
              <a:t> las palabras </a:t>
            </a:r>
            <a:r>
              <a:rPr b="1" lang="es-MX" sz="2300" spc="-1" strike="noStrike">
                <a:solidFill>
                  <a:srgbClr val="ffffff"/>
                </a:solidFill>
                <a:latin typeface="Comic Sans MS"/>
              </a:rPr>
              <a:t>AGUDAS </a:t>
            </a:r>
            <a:r>
              <a:rPr b="0" lang="es-MX" sz="2300" spc="-1" strike="noStrike">
                <a:solidFill>
                  <a:srgbClr val="ffffff"/>
                </a:solidFill>
                <a:latin typeface="Comic Sans MS"/>
              </a:rPr>
              <a:t>que terminan 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28600" y="28954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gudas que terminan en “voc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4"/>
          <p:cNvSpPr/>
          <p:nvPr/>
        </p:nvSpPr>
        <p:spPr>
          <a:xfrm>
            <a:off x="228600" y="32767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4952880" y="2895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gudas que terminan en “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6"/>
          <p:cNvSpPr/>
          <p:nvPr/>
        </p:nvSpPr>
        <p:spPr>
          <a:xfrm>
            <a:off x="4724280" y="32767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609480" y="3276720"/>
            <a:ext cx="3200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apá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omió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scu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amá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irá       escri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hablé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bailó     vi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5181480" y="3214800"/>
            <a:ext cx="4114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orazó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anta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eló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atal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resió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a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2286000" y="48006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gudas que terminan en “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3"/>
          <p:cNvSpPr/>
          <p:nvPr/>
        </p:nvSpPr>
        <p:spPr>
          <a:xfrm>
            <a:off x="2057400" y="518148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2057400" y="5181480"/>
            <a:ext cx="48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glé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sabrá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interés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scocés     enterará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s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francés     comerá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3429000" y="2243160"/>
            <a:ext cx="2971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 u="sng">
                <a:solidFill>
                  <a:srgbClr val="ffffff"/>
                </a:solidFill>
                <a:uFillTx/>
                <a:latin typeface="Comic Sans MS"/>
              </a:rPr>
              <a:t>vocal</a:t>
            </a:r>
            <a:r>
              <a:rPr b="1" lang="es-MX" sz="2300" spc="-1" strike="noStrike">
                <a:solidFill>
                  <a:srgbClr val="ffffff"/>
                </a:solidFill>
                <a:latin typeface="Comic Sans MS"/>
              </a:rPr>
              <a:t>, “</a:t>
            </a:r>
            <a:r>
              <a:rPr b="1" lang="es-MX" sz="2300" spc="-1" strike="noStrike" u="sng">
                <a:solidFill>
                  <a:srgbClr val="ffffff"/>
                </a:solidFill>
                <a:uFillTx/>
                <a:latin typeface="Comic Sans MS"/>
              </a:rPr>
              <a:t>n</a:t>
            </a:r>
            <a:r>
              <a:rPr b="1" lang="es-MX" sz="2300" spc="-1" strike="noStrike">
                <a:solidFill>
                  <a:srgbClr val="ffffff"/>
                </a:solidFill>
                <a:latin typeface="Comic Sans MS"/>
              </a:rPr>
              <a:t>,” “</a:t>
            </a:r>
            <a:r>
              <a:rPr b="1" lang="es-MX" sz="23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s-MX" sz="23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9080" y="60480"/>
            <a:ext cx="8839080" cy="1244520"/>
          </a:xfrm>
          <a:prstGeom prst="rect">
            <a:avLst/>
          </a:prstGeom>
          <a:ln w="0">
            <a:noFill/>
          </a:ln>
        </p:spPr>
      </p:pic>
      <p:sp>
        <p:nvSpPr>
          <p:cNvPr id="371" name="Cloud"/>
          <p:cNvSpPr/>
          <p:nvPr/>
        </p:nvSpPr>
        <p:spPr>
          <a:xfrm>
            <a:off x="762120" y="1447920"/>
            <a:ext cx="7238880" cy="1492200"/>
          </a:xfrm>
          <a:custGeom>
            <a:avLst/>
            <a:gdLst>
              <a:gd name="textAreaLeft" fmla="*/ 997560 w 7238880"/>
              <a:gd name="textAreaRight" fmla="*/ 5726520 w 7238880"/>
              <a:gd name="textAreaTop" fmla="*/ 225360 h 1492200"/>
              <a:gd name="textAreaBottom" fmla="*/ 1197720 h 14922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066680" y="16747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Necesitan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la tilde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Comic Sans MS"/>
              </a:rPr>
              <a:t>solamente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las palabras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LLANAS 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que terminan en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onsonante 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que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sea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“n”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ni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“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04920" y="3124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304920" y="35053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609480" y="3733920"/>
            <a:ext cx="4114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533520" y="3641760"/>
            <a:ext cx="12189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r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ifí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ó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ár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án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ár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2514600" y="3641760"/>
            <a:ext cx="12193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zú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evó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ará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Bolí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lcá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6553080" y="3581280"/>
            <a:ext cx="1981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frág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hués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és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emoránd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álb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Fél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4495680" y="3565440"/>
            <a:ext cx="13716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artí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Gonzál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Góm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ánc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odríg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Vílc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19080" y="60480"/>
            <a:ext cx="8800920" cy="12445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609480" y="3733920"/>
            <a:ext cx="4114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609480" y="3276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Palabras ESDRÚJ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228600" y="36576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724280" y="3276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Palabras SOBREESDRÚJ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4800600" y="36576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533520" y="3749760"/>
            <a:ext cx="39621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atemátic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desér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spectácu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pég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stúpid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ág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ápid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apidís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rédit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uchís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iércole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iabó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4952880" y="3733920"/>
            <a:ext cx="4114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ómpramel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recíbanos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ídese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termínam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iégame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ábrem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echázase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cánten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ágame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trágat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pártasel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recíbem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loud"/>
          <p:cNvSpPr/>
          <p:nvPr/>
        </p:nvSpPr>
        <p:spPr>
          <a:xfrm>
            <a:off x="533520" y="1371600"/>
            <a:ext cx="2895480" cy="1838160"/>
          </a:xfrm>
          <a:custGeom>
            <a:avLst/>
            <a:gdLst>
              <a:gd name="textAreaLeft" fmla="*/ 398880 w 2895480"/>
              <a:gd name="textAreaRight" fmla="*/ 2290680 w 2895480"/>
              <a:gd name="textAreaTop" fmla="*/ 277560 h 1838160"/>
              <a:gd name="textAreaBottom" fmla="*/ 1475640 h 1838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914400" y="190188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LAS ESDRÚJULAS LLEVAN LA TILDE EN LA 3a SÍLABA</a:t>
            </a:r>
            <a:r>
              <a:rPr b="1" lang="es-MX" sz="16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0"/>
          <p:cNvSpPr/>
          <p:nvPr/>
        </p:nvSpPr>
        <p:spPr>
          <a:xfrm>
            <a:off x="5181480" y="1438200"/>
            <a:ext cx="3048120" cy="1838520"/>
          </a:xfrm>
          <a:custGeom>
            <a:avLst/>
            <a:gdLst>
              <a:gd name="textAreaLeft" fmla="*/ 420120 w 3048120"/>
              <a:gd name="textAreaRight" fmla="*/ 2411280 w 3048120"/>
              <a:gd name="textAreaTop" fmla="*/ 277560 h 1838520"/>
              <a:gd name="textAreaBottom" fmla="*/ 1475640 h 1838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5410080" y="1971720"/>
            <a:ext cx="2590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ffffff"/>
                </a:solidFill>
                <a:latin typeface="Comic Sans MS"/>
              </a:rPr>
              <a:t>LAS SOBREESDRÚJULAS LLEVAN LA TILDE EN LA 4</a:t>
            </a:r>
            <a:r>
              <a:rPr b="1" lang="es-MX" sz="1500" spc="-1" strike="noStrike" baseline="36000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es-MX" sz="1500" spc="-1" strike="noStrike">
                <a:solidFill>
                  <a:srgbClr val="ffffff"/>
                </a:solidFill>
                <a:latin typeface="Comic Sans MS"/>
              </a:rPr>
              <a:t> ó 5</a:t>
            </a:r>
            <a:r>
              <a:rPr b="1" lang="es-MX" sz="1500" spc="-1" strike="noStrike" baseline="36000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es-MX" sz="1500" spc="-1" strike="noStrike">
                <a:solidFill>
                  <a:srgbClr val="ffffff"/>
                </a:solidFill>
                <a:latin typeface="Comic Sans MS"/>
              </a:rPr>
              <a:t> SÍLAB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4" descr=""/>
          <p:cNvPicPr/>
          <p:nvPr/>
        </p:nvPicPr>
        <p:blipFill>
          <a:blip r:embed="rId1"/>
          <a:stretch/>
        </p:blipFill>
        <p:spPr>
          <a:xfrm>
            <a:off x="36360" y="73080"/>
            <a:ext cx="8942400" cy="1182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5"/>
          <p:cNvSpPr/>
          <p:nvPr/>
        </p:nvSpPr>
        <p:spPr>
          <a:xfrm>
            <a:off x="304920" y="144792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HOMÓFONAS que suenan igual pero una tiene la tilde para distinguir otra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762120" y="2651040"/>
            <a:ext cx="7848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él 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el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ú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tu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sé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s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ú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a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é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ás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m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sí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si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ólo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s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í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mi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é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d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    *dí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457200" y="403848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os ADVERBIOS que combinan con el sufijo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“mente”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. El adverbio mantiene el acento escrito si la raíz lleva un til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914400" y="556272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rápidamen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difícilmen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estúpidamen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fácilmen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automáticament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inúti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19080" y="12600"/>
            <a:ext cx="8959680" cy="12430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3"/>
          <p:cNvSpPr/>
          <p:nvPr/>
        </p:nvSpPr>
        <p:spPr>
          <a:xfrm>
            <a:off x="304920" y="121932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que tienen un DIPTONGO (dos vocales juntas) que consiste de una vocal </a:t>
            </a:r>
            <a:r>
              <a:rPr b="1" i="1" lang="es-MX" sz="2000" spc="-1" strike="noStrike">
                <a:solidFill>
                  <a:srgbClr val="000000"/>
                </a:solidFill>
                <a:latin typeface="Comic Sans MS"/>
              </a:rPr>
              <a:t>débil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(i,u)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y una vocal </a:t>
            </a:r>
            <a:r>
              <a:rPr b="1" i="1" lang="es-MX" sz="2000" spc="-1" strike="noStrike">
                <a:solidFill>
                  <a:srgbClr val="000000"/>
                </a:solidFill>
                <a:latin typeface="Comic Sans MS"/>
              </a:rPr>
              <a:t>fuerte (a,e,o)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y produce dos sonido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eparado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, requieren una tilde en la </a:t>
            </a:r>
            <a:r>
              <a:rPr b="1" i="1" lang="es-MX" sz="2000" spc="-1" strike="noStrike">
                <a:solidFill>
                  <a:srgbClr val="000000"/>
                </a:solidFill>
                <a:latin typeface="Comic Sans MS"/>
              </a:rPr>
              <a:t>vocal débil (i,u).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e dice que esto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ptongo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stán en  HIATO, o sea, forman un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ntidipton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990720" y="3247920"/>
            <a:ext cx="784836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d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habr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paí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viví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alegr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veníamo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maíz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rí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mayor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tío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mío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sonrí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ten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reír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frío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Raú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huía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querríamo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simpat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Rocí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Díaz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melod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energí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rí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grú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ataúd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oímo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bambú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762120" y="2906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9080" y="12600"/>
            <a:ext cx="8959680" cy="1243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304920" y="1219320"/>
            <a:ext cx="8001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INTERROGATIVAS necesitan llevar la tilde cuando van entre signos de interrogación y cuando son pregunt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indirec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762120" y="2666880"/>
            <a:ext cx="7848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Qué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s eso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Quié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s él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ónd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stá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ómo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e llamas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ál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chico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dónd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v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ánd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viene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ánt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cuestan?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ále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zapa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685800" y="4191120"/>
            <a:ext cx="784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 de preguntas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indirec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Yo no sé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qué</a:t>
            </a:r>
            <a:r>
              <a:rPr b="0" i="1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voy a hacer co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o sabe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ánt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te o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i supier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ómo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e haces sufr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Ya no sabemo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dónde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va esta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762120" y="22096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 de palabras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rogativ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080" y="12600"/>
            <a:ext cx="8959680" cy="124308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304920" y="144792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EXCLAMATORIAS necesitan llevar la tilde cuando van entre signos de excla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990720" y="2666880"/>
            <a:ext cx="78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Qué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belleza!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Qué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útil er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ómo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que no!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ómo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e haces sufr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304920" y="358128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os pronombres DEMOSTRATIVOS llevan la tilde cuando reemplazan al sustan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990720" y="4800600"/>
            <a:ext cx="784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ste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   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sta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      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stos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        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st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  =  </a:t>
            </a:r>
            <a:r>
              <a:rPr b="0" i="1" lang="es-MX" sz="2000" spc="-1" strike="noStrike">
                <a:solidFill>
                  <a:srgbClr val="000000"/>
                </a:solidFill>
                <a:latin typeface="Comic Sans MS"/>
              </a:rPr>
              <a:t>this one, these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se     ésa       ésos        ésas  =  </a:t>
            </a:r>
            <a:r>
              <a:rPr b="0" i="1" lang="es-MX" sz="2000" spc="-1" strike="noStrike">
                <a:solidFill>
                  <a:srgbClr val="000000"/>
                </a:solidFill>
                <a:latin typeface="Comic Sans MS"/>
              </a:rPr>
              <a:t>that one, those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quél   aquélla   aquéllos    aquéllas = </a:t>
            </a:r>
            <a:r>
              <a:rPr b="0" i="1" lang="es-MX" sz="2000" spc="-1" strike="noStrike">
                <a:solidFill>
                  <a:srgbClr val="000000"/>
                </a:solidFill>
                <a:latin typeface="Comic Sans MS"/>
              </a:rPr>
              <a:t>that one, those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9080" y="-6480"/>
            <a:ext cx="8800920" cy="14274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"/>
          <p:cNvSpPr/>
          <p:nvPr/>
        </p:nvSpPr>
        <p:spPr>
          <a:xfrm>
            <a:off x="304920" y="1700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rcicio D: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Identifica la sílaba tónica (el énfasis),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subrayándola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y luego determina si debería llevar la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tilde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04920" y="3141720"/>
            <a:ext cx="8458200" cy="27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1. alfombr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6. pastel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    11. continuo (I continu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2. celebre (I celebrated)     7. examenes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    12. reconcentr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3.  matrimonio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8. mandon               13.electroencefalografi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4. metodologia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9. aprendieron        14. nitidam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5. continuo (continuous)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10. facilidad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          15. respondiam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4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99400" cy="1024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76320" y="1676520"/>
            <a:ext cx="914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Últim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(primera síl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Penúltim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(segunda síl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Antepenúltim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(tercera síl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Antes de la antepenúltim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(cuarta síl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371600" y="3733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Ejemplo: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743200" y="4343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e                ño               ri                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3505320" y="40384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Seño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990720" y="518148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ntes de la antepenúltima síl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3048120" y="5257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ntepenúltima síl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81480" y="52578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enúltima      síl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6629400" y="5257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Última síl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 flipH="1">
            <a:off x="1981080" y="4648320"/>
            <a:ext cx="9907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 flipH="1">
            <a:off x="3733560" y="464832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562720" y="4724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7010280" y="46483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723888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5486400" y="58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523880" y="6019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365760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3048120" y="5257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ntepenúltima síl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 flipH="1">
            <a:off x="1981080" y="4648320"/>
            <a:ext cx="9907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 flipH="1">
            <a:off x="3733560" y="464832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5562720" y="4724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9080" y="689040"/>
            <a:ext cx="8800920" cy="8715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5"/>
          <p:cNvSpPr/>
          <p:nvPr/>
        </p:nvSpPr>
        <p:spPr>
          <a:xfrm>
            <a:off x="304920" y="184464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rcicio E: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Explica por qué se escriben con acento cada una de las palabras siguientes. Usa explicaciones que emplean los términos </a:t>
            </a:r>
            <a:r>
              <a:rPr b="0" i="1" lang="es-MX" sz="2200" spc="-1" strike="noStrike">
                <a:solidFill>
                  <a:srgbClr val="000000"/>
                </a:solidFill>
                <a:latin typeface="Comic Sans MS"/>
              </a:rPr>
              <a:t>sobreesdrújula, esdrújula, llana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i="1" lang="es-MX" sz="2200" spc="-1" strike="noStrike">
                <a:solidFill>
                  <a:srgbClr val="000000"/>
                </a:solidFill>
                <a:latin typeface="Comic Sans MS"/>
              </a:rPr>
              <a:t> agu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304920" y="3645000"/>
            <a:ext cx="84582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 papá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6. actuó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1. cánt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comíamo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7. Yo sí me fui.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2. Pero él se qued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3. bendició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8. actúo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3. contentís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4. Tráigamelos.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9. Álvarez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4. Dámelo a m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5.  sazón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0. biologí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5. f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19080" y="542880"/>
            <a:ext cx="8800920" cy="87804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228600" y="162864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rcicio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F: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Pon acentos donde hagan falta. Luego explica por qué los has puesto, citando la regla apropi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28600" y="2924280"/>
            <a:ext cx="868680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mic Sans MS"/>
              </a:rPr>
              <a:t>1. El catedratico Juan Ramon Gutierrez Candelaria abrio la ventana de par en par y grito a viva voz: “¡Ya veras!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mic Sans MS"/>
              </a:rPr>
              <a:t>2. Para sacar veintitres fotografias con su camara fotografica, el muchacho ingenuo subio aun mas a la pirami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mic Sans MS"/>
              </a:rPr>
              <a:t>3. Si yo no me caso es porque Hector, el unico amor de mi vida, ya se caso con ot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mic Sans MS"/>
              </a:rPr>
              <a:t>4. A Alicia le gustaria la musica japonesa, no la hunga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mic Sans MS"/>
              </a:rPr>
              <a:t>5. Yo practico el piano practicamente todos los d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9080" y="396720"/>
            <a:ext cx="8800920" cy="8780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76320" y="15573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rcicio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F: Pon acentos donde hagan falta. Luego explica por qué los has puesto, citando la regla apropi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52280" y="2708280"/>
            <a:ext cx="8686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6. Lloro muchisimo la distraida ancianita hasta que a ultima hora mu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7. Tambien se le ocurrio que debia estudiar mas para sus exame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8. Rene se caso con Maria Concepcion y ahora tienen tres beb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9. A mi no me engaña ni el leon mas astu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10. Mi tio en un hipocrita: a todos les dice que si, pero en el fondo nunca esta de acuer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4" descr=""/>
          <p:cNvPicPr/>
          <p:nvPr/>
        </p:nvPicPr>
        <p:blipFill>
          <a:blip r:embed="rId1"/>
          <a:stretch/>
        </p:blipFill>
        <p:spPr>
          <a:xfrm>
            <a:off x="128520" y="-249120"/>
            <a:ext cx="8564760" cy="13222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304920" y="1125360"/>
            <a:ext cx="8534160" cy="32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Ejercicio A: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¿Cómo se llama esa sílaba?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Separa la palabra en sílabas y determina el nombre de la sílaba específ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1. hidratación / ¿Cuál es la </a:t>
            </a:r>
            <a:r>
              <a:rPr b="0" i="1" lang="es-MX" sz="1800" spc="-1" strike="noStrike">
                <a:solidFill>
                  <a:srgbClr val="000000"/>
                </a:solidFill>
                <a:latin typeface="Comic Sans MS"/>
              </a:rPr>
              <a:t>tercer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2. Maribel / ¿Cuál es la </a:t>
            </a:r>
            <a:r>
              <a:rPr b="0" i="1" lang="es-MX" sz="1800" spc="-1" strike="noStrike">
                <a:solidFill>
                  <a:srgbClr val="000000"/>
                </a:solidFill>
                <a:latin typeface="Comic Sans MS"/>
              </a:rPr>
              <a:t>tercer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3. Linda / ¿Cuál es la </a:t>
            </a:r>
            <a:r>
              <a:rPr b="0" i="1" lang="es-MX" sz="1800" spc="-1" strike="noStrike">
                <a:solidFill>
                  <a:srgbClr val="000000"/>
                </a:solidFill>
                <a:latin typeface="Comic Sans MS"/>
              </a:rPr>
              <a:t>primer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4. estupendamente / ¿Cual es la </a:t>
            </a:r>
            <a:r>
              <a:rPr b="0" i="1" lang="es-MX" sz="1800" spc="-1" strike="noStrike">
                <a:solidFill>
                  <a:srgbClr val="000000"/>
                </a:solidFill>
                <a:latin typeface="Comic Sans MS"/>
              </a:rPr>
              <a:t>antes de la tercer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5. obstáculo / ¿Cual es la </a:t>
            </a:r>
            <a:r>
              <a:rPr b="0" i="1" lang="es-MX" sz="1800" spc="-1" strike="noStrike">
                <a:solidFill>
                  <a:srgbClr val="000000"/>
                </a:solidFill>
                <a:latin typeface="Comic Sans MS"/>
              </a:rPr>
              <a:t>segund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304920" y="3962520"/>
            <a:ext cx="85341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Ejercicio B: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etermina cuál es la sílaba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subrayad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esesperadamente = de   ses    pe  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r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da   men   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2. Andrés =  An 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d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3. cucaracha =  cu    ca  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r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4. cerveza  =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cer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ve    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5. Lazarillo  =  La    za 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ri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4" descr=""/>
          <p:cNvPicPr/>
          <p:nvPr/>
        </p:nvPicPr>
        <p:blipFill>
          <a:blip r:embed="rId1"/>
          <a:stretch/>
        </p:blipFill>
        <p:spPr>
          <a:xfrm>
            <a:off x="-85680" y="-85680"/>
            <a:ext cx="8905680" cy="10000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152280" y="914400"/>
            <a:ext cx="899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se puede encontrar en palabras donde la sílaba tiene el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sonido más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más fuerte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y en palabras con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el acento escrit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 También se le llama la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 sílaba tónic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990720" y="2209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Ejemplos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447920" y="2666880"/>
            <a:ext cx="746748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casa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   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libertad               li      ber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t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inglés                   in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g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lápiz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lá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     pi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médico            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mé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   di    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examen                e 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xa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  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exámenes             e   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xá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   men  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"/>
          <p:cNvSpPr/>
          <p:nvPr/>
        </p:nvSpPr>
        <p:spPr>
          <a:xfrm>
            <a:off x="3809880" y="2666880"/>
            <a:ext cx="45720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0"/>
          <p:cNvSpPr/>
          <p:nvPr/>
        </p:nvSpPr>
        <p:spPr>
          <a:xfrm>
            <a:off x="5334120" y="3124080"/>
            <a:ext cx="60948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1"/>
          <p:cNvSpPr/>
          <p:nvPr/>
        </p:nvSpPr>
        <p:spPr>
          <a:xfrm>
            <a:off x="4419720" y="3657600"/>
            <a:ext cx="6858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3809880" y="419112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3"/>
          <p:cNvSpPr/>
          <p:nvPr/>
        </p:nvSpPr>
        <p:spPr>
          <a:xfrm>
            <a:off x="3733920" y="4648320"/>
            <a:ext cx="60948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4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4495680" y="563868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4" descr=""/>
          <p:cNvPicPr/>
          <p:nvPr/>
        </p:nvPicPr>
        <p:blipFill>
          <a:blip r:embed="rId1"/>
          <a:stretch/>
        </p:blipFill>
        <p:spPr>
          <a:xfrm>
            <a:off x="-55440" y="189000"/>
            <a:ext cx="8901000" cy="963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"/>
          <p:cNvSpPr/>
          <p:nvPr/>
        </p:nvSpPr>
        <p:spPr>
          <a:xfrm>
            <a:off x="152280" y="1523880"/>
            <a:ext cx="883944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r>
              <a:rPr b="1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rcicio C: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Divide las siguientes palabras en sílabas. Traza un círculo  alrededor de la sílaba que lleva el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omic Sans MS"/>
              </a:rPr>
              <a:t>Ejemplo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:     </a:t>
            </a:r>
            <a:r>
              <a:rPr b="1" i="1" lang="es-MX" sz="2200" spc="-1" strike="noStrike">
                <a:solidFill>
                  <a:srgbClr val="000000"/>
                </a:solidFill>
                <a:latin typeface="Comic Sans MS"/>
              </a:rPr>
              <a:t>pincel     pin   cel  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[énfasis en la primera sílaba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1. Antonio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6.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2. feroz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7. árb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3. rápido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8. ciu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4. valiente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 9. tendrás 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5. bañándose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10. habláb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6"/>
          <p:cNvSpPr/>
          <p:nvPr/>
        </p:nvSpPr>
        <p:spPr>
          <a:xfrm>
            <a:off x="457200" y="2044800"/>
            <a:ext cx="106668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71800" y="273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4191120" y="2438280"/>
            <a:ext cx="53316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6"/>
          <p:cNvSpPr/>
          <p:nvPr/>
        </p:nvSpPr>
        <p:spPr>
          <a:xfrm>
            <a:off x="762120" y="2427120"/>
            <a:ext cx="8001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Comic Sans MS"/>
              </a:rPr>
              <a:t>Ejemplos: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1. el (he/him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2. papa (father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3. lapiz (pencil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4. japones (Japanese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5. cinico (cynical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6. vendeselo (sell it to him/her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7. Juarez (last name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8. compramelo (buy it for me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Rectangle 4" descr=""/>
          <p:cNvPicPr/>
          <p:nvPr/>
        </p:nvPicPr>
        <p:blipFill>
          <a:blip r:embed="rId1"/>
          <a:stretch/>
        </p:blipFill>
        <p:spPr>
          <a:xfrm>
            <a:off x="1268280" y="73080"/>
            <a:ext cx="7882200" cy="7747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304920" y="1600200"/>
            <a:ext cx="85341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1" lang="es-MX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Sólo las vocales (á, é, í, ó, ú) pueden llevar la tilde (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´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350532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é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809880" y="3214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pap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733920" y="3657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láp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4419720" y="4038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japo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3962520" y="45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5486400" y="4876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véndes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44197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Juá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5257800" y="5715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cómpram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304920" y="826920"/>
            <a:ext cx="85341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1" lang="es-MX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El acento escrito (la tilde) es una pequeña rayita ( </a:t>
            </a: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´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) que se coloca sobre la vocal de la sílaba para indicar el </a:t>
            </a:r>
            <a:r>
              <a:rPr b="1" lang="es-MX" sz="19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1" i="1" lang="es-MX" sz="19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0880" y="20574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¡La mayoría de las palabras </a:t>
            </a:r>
            <a:r>
              <a:rPr b="1" lang="es-MX" sz="1900" spc="-1" strike="noStrike">
                <a:solidFill>
                  <a:srgbClr val="000000"/>
                </a:solidFill>
                <a:latin typeface="Comic Sans MS"/>
              </a:rPr>
              <a:t>no llevan acento escrito</a:t>
            </a:r>
            <a:r>
              <a:rPr b="0" lang="es-MX" sz="19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4" descr=""/>
          <p:cNvPicPr/>
          <p:nvPr/>
        </p:nvPicPr>
        <p:blipFill>
          <a:blip r:embed="rId1"/>
          <a:stretch/>
        </p:blipFill>
        <p:spPr>
          <a:xfrm>
            <a:off x="-85680" y="115920"/>
            <a:ext cx="8905680" cy="1341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0" y="1600200"/>
            <a:ext cx="8534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 clasificación de las palabras depende de la pronunciación de la palabra y la posición del énf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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n el español, las palabras se clasifican en CUATRO CL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0" y="5105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IV.  SOBREESDRÚJULAS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= llevan el énfasis </a:t>
            </a: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cuarta 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152280" y="312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AGUDAS=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levan el énfasis en la primera </a:t>
            </a: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0" y="4481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III. ESDRÚJULAS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= llevan el énfasis en la tercera </a:t>
            </a: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152280" y="3809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II. LLANAS (GRAVES)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= llevan el énfasis en la segunda </a:t>
            </a:r>
            <a:r>
              <a:rPr b="1" i="1" lang="es-MX" sz="1800" spc="-1" strike="noStrike">
                <a:solidFill>
                  <a:srgbClr val="000000"/>
                </a:solidFill>
                <a:latin typeface="Comic Sans MS"/>
              </a:rPr>
              <a:t>sílaba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Cloud"/>
          <p:cNvSpPr/>
          <p:nvPr/>
        </p:nvSpPr>
        <p:spPr>
          <a:xfrm>
            <a:off x="5029200" y="4267080"/>
            <a:ext cx="2743200" cy="183852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520"/>
              <a:gd name="textAreaBottom" fmla="*/ 1475640 h 1838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Rectangle 4" descr=""/>
          <p:cNvPicPr/>
          <p:nvPr/>
        </p:nvPicPr>
        <p:blipFill>
          <a:blip r:embed="rId1"/>
          <a:stretch/>
        </p:blipFill>
        <p:spPr>
          <a:xfrm>
            <a:off x="-30240" y="-85680"/>
            <a:ext cx="8850240" cy="10364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0" y="8510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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llamad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AGUD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tienen el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n la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última sílab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990720" y="1676520"/>
            <a:ext cx="70102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bailar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bai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dministrador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ad   mi   ni  stra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natural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na  tu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reloj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re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ctriz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ac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hotel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ho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mamá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ma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m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interés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in   te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apitán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ca   pi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tán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anción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can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francés     fran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2438280" y="1676520"/>
            <a:ext cx="4572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4724280" y="2057400"/>
            <a:ext cx="5335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895480" y="2514600"/>
            <a:ext cx="4572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0"/>
          <p:cNvSpPr/>
          <p:nvPr/>
        </p:nvSpPr>
        <p:spPr>
          <a:xfrm>
            <a:off x="2438280" y="3733920"/>
            <a:ext cx="3812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2438280" y="4114800"/>
            <a:ext cx="4572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2971800" y="4952880"/>
            <a:ext cx="3808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3"/>
          <p:cNvSpPr/>
          <p:nvPr/>
        </p:nvSpPr>
        <p:spPr>
          <a:xfrm>
            <a:off x="2819520" y="5410080"/>
            <a:ext cx="6094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5257800" y="47214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¡Algunas palabras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gud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tienen un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cento escrito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2438280" y="2895480"/>
            <a:ext cx="45720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2438280" y="3276720"/>
            <a:ext cx="5335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2895480" y="5791320"/>
            <a:ext cx="533520" cy="30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0"/>
          <p:cNvSpPr/>
          <p:nvPr/>
        </p:nvSpPr>
        <p:spPr>
          <a:xfrm>
            <a:off x="2971800" y="4572000"/>
            <a:ext cx="5335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762120" y="12193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-60480" y="-249120"/>
            <a:ext cx="8826480" cy="1339560"/>
          </a:xfrm>
          <a:prstGeom prst="rect">
            <a:avLst/>
          </a:prstGeom>
          <a:ln w="0">
            <a:noFill/>
          </a:ln>
        </p:spPr>
      </p:pic>
      <p:sp>
        <p:nvSpPr>
          <p:cNvPr id="315" name="Cloud"/>
          <p:cNvSpPr/>
          <p:nvPr/>
        </p:nvSpPr>
        <p:spPr>
          <a:xfrm>
            <a:off x="5867280" y="4038480"/>
            <a:ext cx="2743200" cy="183852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520"/>
              <a:gd name="textAreaBottom" fmla="*/ 1475640 h 1838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9907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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s palabras llamadas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LANA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tienen el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énfasis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en la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penúltima sílaba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990720" y="1828800"/>
            <a:ext cx="70102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mes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bonita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bo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ni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mentiroso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men   ti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ro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xcelente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ex    ce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en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volumen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vo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lu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fácil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fá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ifícil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di 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fí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azúcar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a  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zú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ópez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Ló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6095880" y="44928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¡Algunas palabras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llanas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tienen un 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cento escrito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</a:rPr>
              <a:t>!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3505320" y="3124080"/>
            <a:ext cx="380880" cy="304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8"/>
          <p:cNvSpPr/>
          <p:nvPr/>
        </p:nvSpPr>
        <p:spPr>
          <a:xfrm>
            <a:off x="2514600" y="2286000"/>
            <a:ext cx="380880" cy="304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3429000" y="2666880"/>
            <a:ext cx="380880" cy="304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2590920" y="3505320"/>
            <a:ext cx="380880" cy="30456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1"/>
          <p:cNvSpPr/>
          <p:nvPr/>
        </p:nvSpPr>
        <p:spPr>
          <a:xfrm>
            <a:off x="1905120" y="1905120"/>
            <a:ext cx="380880" cy="30456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2"/>
          <p:cNvSpPr/>
          <p:nvPr/>
        </p:nvSpPr>
        <p:spPr>
          <a:xfrm>
            <a:off x="1835280" y="3933720"/>
            <a:ext cx="533160" cy="304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3"/>
          <p:cNvSpPr/>
          <p:nvPr/>
        </p:nvSpPr>
        <p:spPr>
          <a:xfrm>
            <a:off x="2268360" y="4267080"/>
            <a:ext cx="574920" cy="38124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"/>
          <p:cNvSpPr/>
          <p:nvPr/>
        </p:nvSpPr>
        <p:spPr>
          <a:xfrm>
            <a:off x="2268360" y="4648320"/>
            <a:ext cx="474840" cy="38088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5"/>
          <p:cNvSpPr/>
          <p:nvPr/>
        </p:nvSpPr>
        <p:spPr>
          <a:xfrm>
            <a:off x="2050920" y="5084640"/>
            <a:ext cx="457200" cy="38124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20:00:01Z</dcterms:created>
  <dc:creator>crojas</dc:creator>
  <dc:description/>
  <dc:language>en-US</dc:language>
  <cp:lastModifiedBy>Susana</cp:lastModifiedBy>
  <dcterms:modified xsi:type="dcterms:W3CDTF">2016-04-15T07:26:38Z</dcterms:modified>
  <cp:revision>97</cp:revision>
  <dc:subject/>
  <dc:title>PowerPoint Presentation  -  ¿Dónde va la tilde? Los acentos ortográficos en el español</dc:title>
</cp:coreProperties>
</file>